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80587-1558-464D-A394-F8D88F525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50333-FE43-45BF-AE08-A84EE0F96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E70DC-0B24-465A-9451-16A0BAA5C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A8F67-0905-4B72-B8CD-D0B419623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337BA-1BCA-42ED-B45D-D858F9CC5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74B6-3FF0-4AEE-BA01-271EFDCE0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FF9E3-B8FC-475D-B133-31B5DF31E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9A151-42BF-4D46-8A83-F7EBAC259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A6BD3-0FD4-4E21-AD0C-AD61B812A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88FB-FF68-41B1-B382-F47AFC421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18784-F368-4D36-850B-95CFCD4B0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D5D40-3E07-43F3-82E6-F9B3A269D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F828-D566-4760-8676-201C5C23D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828800" y="3143160"/>
            <a:ext cx="6400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Adaptat după Manualul de Fizică, clasa a IX-a, Mircea Nistor,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752f"/>
            </a:gs>
            <a:gs pos="100000">
              <a:srgbClr val="ccff66"/>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Elev</cp:lastModifiedBy>
  <dcterms:modified xsi:type="dcterms:W3CDTF">2012-06-18T11:09:06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